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7.gif" ContentType="image/gif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2.gif" ContentType="image/gif"/>
  <Override PartName="/ppt/media/image2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2.jpeg" ContentType="image/jpeg"/>
  <Override PartName="/ppt/media/image1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780-4910-4131-BF24-7D371021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286-1ED3-4FDF-A332-5D6FF201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CE3E6-3DDC-4D00-987B-C214C391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E0A81-0B18-4FE0-BAA5-13D40031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76087-22BA-46E7-851A-14E96B0E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C30E2-B8F2-4BB0-9E55-72D6745F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8696F-A0B5-4E3F-87CC-A24457B8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EACA0-B28D-4619-B656-D48885B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5F8CA-E0BA-4599-8360-76599B16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92792-4339-44E4-8C7F-1054C977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4DCC2-D044-4AED-B025-51B0E04B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B7BB0-E6C4-455E-989F-B2202A6C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648-2575-4161-B401-EE831EC4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1D51A-185A-4741-A5DB-F554FDFF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92DBA-8752-4198-A65D-F057A4E9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B1CBF-1578-4284-BE84-D5821ED1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160BB-DF17-4713-A080-1C52272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734EF-3B0D-4558-8EF0-0D4AE2B6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A055C-6D3A-4F31-BFEB-133A03BE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90B61-8F2B-43A6-A401-BC1B921F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DF122-0F69-4ED8-B392-D40D4321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6A016-7664-4993-81D0-A0EE24DC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80D3D-DDA5-4BE8-9F55-0CC817AF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004-DA3F-49BD-AFD3-40662B18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41696-DB35-4E6C-9917-8CFD6957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5A74A-7E87-462F-9BCE-64E06632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03CC5-A5B4-49B1-991F-7DB8AF7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69886-5F11-42E1-B89D-B998BB64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949FE-EC1F-4EE2-AA99-AF5AD751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DD884-F0A0-4ED2-9FF9-A34170A2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BAA17-FF2E-4891-8271-A34A336D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5A8E1-6A13-4C01-9A59-9A187457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809DF-DDD9-4A26-A7FD-8B83D464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B9428-A9CB-462E-A000-1D61121B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F933-B8B9-42BF-8717-3B77136F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19F7F-F414-4A02-91A4-3C024B5A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ACB27-2649-4B72-9E80-7AE5BB5D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515E7-8EA7-4EE7-9396-3A882245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68328-374F-4C61-B11A-8B6E48AD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12850-F4BF-47AD-B71B-4095D63B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C50BD-0C7C-499E-A86C-23BDBAEA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11BE9-B946-4811-A68A-AF0864B1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129B3-E6FD-479E-B0C6-B8307350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5BA7D-83C4-4063-8CE2-351C6C2C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E4E60-3517-4ADC-BE5A-9B47C7C7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3627-DE8B-484F-96A7-ED693BAF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E1A41-1E68-4F9A-AE08-BD276E62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98BE8-1202-40D0-8C92-39F8AA7F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36F79-81E0-4533-B364-2FF31380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3D699-85D8-4F88-8839-FEAB79FE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62BD7-B416-48AF-9B5C-0201113D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CCDE-17BE-4313-94CF-84382F4B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7349-ACC9-49BC-8D73-150E1FDF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4EC6-ED8B-4E7A-89DD-A878B4E3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5AB0-685D-45FD-8C17-0EFC4460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140E-6397-44D1-A96D-8DF46999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454-68B0-44E4-B96C-2544244B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628C-56C7-4A0C-9D82-B3455ACE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66C1-6B14-4532-A30A-04F7BEB1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97A2-102D-4BD9-9951-4DDC63A7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0CBE-A228-4B8B-ACE5-E92DE1E7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1D05-A363-4C2D-A703-DD783CF5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E734A-E399-4BCD-9CEA-97E1510F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23CE-1F7B-4428-BF1F-FBE4A81A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35AD1-3519-4CA0-84C4-A766C962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9B3D-46B8-48D8-B003-59769C3E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B4BF-94CD-4937-9308-9775A11C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6DF-095A-4C00-8EC3-955EB10F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8544-A0E5-4A7E-A925-10536A4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BBD7-69C3-4C79-A33C-1D598152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DB1C1-34D7-4476-9714-A54D3E2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7AC0F-52B2-48D8-B180-B045B93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4AD1-1ABD-4C39-AD6B-A21C6A8A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B4E37-1944-474F-AE14-1EAC9652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2230-F916-46E3-BD9B-30EDE82D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7D75-411C-4AE8-8248-5BFDEB88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E3FE0-5C24-40D7-B042-29D75197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BDC2C-3C01-47FA-B0B8-6101EEF4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81B-9513-4CB2-8909-728B6CFC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82BE8-7180-4DA0-8F98-2608F16E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4219-5791-4F7D-8DD9-C3D7F6A3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73612-598D-475A-9C5D-3180B202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CEADC-250D-4AE0-B0A8-B97697F2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166CF-EE0C-43C6-9A55-FE77B259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49D8-3393-4F3F-BD25-C5C19AE9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A889C-7D9F-4AE3-AF90-0F27349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AC3F5-FB3D-45EC-A63C-41F1EB08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F12DA-8C76-4093-AEDB-07B2CE9F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1FC58-0B95-433E-8C9A-BE958613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521-734A-4912-8C22-7E043244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251A9-8585-4BDC-8AEC-3BFE1DF0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46B0-93FA-4FB6-BFD2-4B9EEE7D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B95C2-A690-4E83-BDAF-BC48A2CC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7A6D1-1BF1-4780-80AF-436AA7C6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0D2FF-556E-4CDF-B542-AF4CE329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D7BA3-9C98-4507-9998-D18CDF00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4FEC9-2E2C-4E93-BD84-0C8A02DA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AB8DA-34EB-4D7F-995B-4DA0E9E8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AB9BC-4A13-4FDF-AC6A-A30F0421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B39A9-F4FA-4046-8B6A-7F633C40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E50-D8E4-411E-8D6F-EBE7E57D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0F067-5E15-4837-85B5-6286958D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3502C-3E8A-4672-8EB1-69BAD0F6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AF3B8-6F03-45A3-891C-4DFB6DB4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EB931-4091-4A8C-8750-EE1FF6E0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7B105-B47B-44DE-8D1A-8279B42B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60529-101A-44B1-8E39-6F0949A6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FADE5-EB46-441A-BF98-121DECD5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5285-D790-46C1-B1A0-6C98CC2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79282-9D60-4271-91AB-684252E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59BF-0D22-4D31-852D-136756B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9E4-F4D7-42DE-BB2E-78420BDC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4CF8D-9F89-4340-BC18-E7E27C24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82D6-4E71-4953-B7E3-CD06709E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80F3-9C54-4FF8-8A93-9DB60087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9F642-EF91-4041-8025-B7914B96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8954D-8C22-4D81-803E-896A4028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C54EC-9BFB-47A9-8A7A-237290AE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58BD8-A17E-46BC-9C34-31C43F33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28852-95D8-499C-9B48-7E3D70FF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B830C-7D9E-4039-93C2-AE4963B6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E728C-3DDB-408F-A6F5-39F9F54F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A4B-70AF-4296-8240-81AC2EA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7DC38-365A-4F11-A273-CCA1F83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EB2AD-DEBF-4279-959B-193B1754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F5105-1EE5-4048-B745-6E1D88F8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4953E-71C3-4268-A949-D6554562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149D1-DDA8-4971-A2DC-6A2FFBB9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A4B3E-DD90-4438-B8D1-3D8581D0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0A700-5CD9-4196-A4CB-1E040F62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BDE96-8E3D-475D-B14C-DC0BA927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E7F5D-72CF-4442-9499-BE7762C0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CFEEB-0BB0-437B-B22C-10F5DF29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AC7-5771-4469-9AF2-65445434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9DE48-82C7-485E-A000-B34CD873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E26EE-C802-49C9-9C56-8D5D7E8E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6707B-A2F8-47E6-95CE-06882876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A19D4-FFCD-4A96-B6B3-0537A7CD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F33FF-C4B5-4CD9-A38D-3F86CA66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030CA-CFBD-4893-8BC7-AAE76A87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51385-94C7-44E2-8D38-C200D1C1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8E4CF-2143-4728-AD6C-7FE5C6A8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2D9FA-E3EC-46A8-B3D2-E6D30AEE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7EDAD-D4BD-4B5F-9F51-8E86CB7B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1373-2E2C-478D-8774-8F49950B5E1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17C1-FE7A-4FDE-9838-E24C645B446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B85F-0D5C-4286-89D0-5342C64A4FA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D624-4D83-4C77-936C-D5F214BEC85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51E3-803F-4C11-B60A-E02E01C90F4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2AE1-2B90-4C17-A4DE-E9BF897270A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38D-2691-45F9-A1FC-7ACC9A7B85C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0911-B73F-4A9F-8A60-AB4F28D0EB7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6C6F-77C1-48BA-A0A8-71099822CAC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9147-7082-4D0C-B893-09FCDB8AE4C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5934-350F-48A0-96FC-1C25F01FA2C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755-F3AE-4354-8EDB-FC55E2E5EE2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5" descr="https://allyslide.com/thumbs/a5fc47b10faa7078d5e8166e5b26fa0d/img11.jpg"/>
          <p:cNvPicPr/>
          <p:nvPr/>
        </p:nvPicPr>
        <p:blipFill>
          <a:blip r:embed="rId1"/>
          <a:stretch/>
        </p:blipFill>
        <p:spPr>
          <a:xfrm>
            <a:off x="1619280" y="177336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607" name="Прямоугольник 2"/>
          <p:cNvSpPr/>
          <p:nvPr/>
        </p:nvSpPr>
        <p:spPr>
          <a:xfrm>
            <a:off x="1187280" y="476280"/>
            <a:ext cx="702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уффиксы –ЕК и –ИК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в именах существитель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1258920" y="167796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т...к,  сыноч..к,  глоточ..к,  дом...к,  стол...к,  кусоч....к,  комоч....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1"/>
          <p:cNvSpPr/>
          <p:nvPr/>
        </p:nvSpPr>
        <p:spPr>
          <a:xfrm>
            <a:off x="2195640" y="88884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466560" y="1012680"/>
            <a:ext cx="2521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т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оч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точ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оч.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оч.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5797080" y="1052640"/>
            <a:ext cx="16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2918520" y="263700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то</a:t>
            </a:r>
            <a:r>
              <a:rPr b="1" lang="ru-RU" sz="3600" spc="-1" strike="noStrike">
                <a:solidFill>
                  <a:srgbClr val="89e9ff"/>
                </a:solidFill>
                <a:latin typeface="Times New Roman"/>
                <a:ea typeface="Times New Roman"/>
              </a:rPr>
              <a:t>ч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3060720" y="350028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3205800" y="4292640"/>
            <a:ext cx="18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3205080" y="515772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о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0"/>
          <p:cNvSpPr/>
          <p:nvPr/>
        </p:nvSpPr>
        <p:spPr>
          <a:xfrm>
            <a:off x="3349440" y="5950080"/>
            <a:ext cx="19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о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1"/>
          <p:cNvSpPr/>
          <p:nvPr/>
        </p:nvSpPr>
        <p:spPr>
          <a:xfrm>
            <a:off x="5726520" y="184464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оч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2"/>
          <p:cNvSpPr/>
          <p:nvPr/>
        </p:nvSpPr>
        <p:spPr>
          <a:xfrm>
            <a:off x="5582520" y="263700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точ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5797800" y="342900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4"/>
          <p:cNvSpPr/>
          <p:nvPr/>
        </p:nvSpPr>
        <p:spPr>
          <a:xfrm>
            <a:off x="5869440" y="4292640"/>
            <a:ext cx="16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5"/>
          <p:cNvSpPr/>
          <p:nvPr/>
        </p:nvSpPr>
        <p:spPr>
          <a:xfrm>
            <a:off x="5942160" y="515772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оч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6"/>
          <p:cNvSpPr/>
          <p:nvPr/>
        </p:nvSpPr>
        <p:spPr>
          <a:xfrm>
            <a:off x="5942160" y="587700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оч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7"/>
          <p:cNvSpPr/>
          <p:nvPr/>
        </p:nvSpPr>
        <p:spPr>
          <a:xfrm>
            <a:off x="3995640" y="1700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8"/>
          <p:cNvSpPr/>
          <p:nvPr/>
        </p:nvSpPr>
        <p:spPr>
          <a:xfrm>
            <a:off x="4140360" y="2492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9"/>
          <p:cNvSpPr/>
          <p:nvPr/>
        </p:nvSpPr>
        <p:spPr>
          <a:xfrm>
            <a:off x="4284720" y="501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0"/>
          <p:cNvSpPr/>
          <p:nvPr/>
        </p:nvSpPr>
        <p:spPr>
          <a:xfrm>
            <a:off x="4427640" y="5805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6"/>
          <p:cNvGrpSpPr/>
          <p:nvPr/>
        </p:nvGrpSpPr>
        <p:grpSpPr>
          <a:xfrm>
            <a:off x="2195640" y="888840"/>
            <a:ext cx="2736720" cy="806400"/>
            <a:chOff x="2195640" y="888840"/>
            <a:chExt cx="2736720" cy="806400"/>
          </a:xfrm>
        </p:grpSpPr>
        <p:sp>
          <p:nvSpPr>
            <p:cNvPr id="660" name="Text Box 3"/>
            <p:cNvSpPr/>
            <p:nvPr/>
          </p:nvSpPr>
          <p:spPr>
            <a:xfrm>
              <a:off x="2987640" y="105264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онт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к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1"/>
            <p:cNvSpPr/>
            <p:nvPr/>
          </p:nvSpPr>
          <p:spPr>
            <a:xfrm>
              <a:off x="2195640" y="888840"/>
              <a:ext cx="576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Line 22"/>
          <p:cNvSpPr/>
          <p:nvPr/>
        </p:nvSpPr>
        <p:spPr>
          <a:xfrm>
            <a:off x="5003640" y="1413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37"/>
          <p:cNvGrpSpPr/>
          <p:nvPr/>
        </p:nvGrpSpPr>
        <p:grpSpPr>
          <a:xfrm>
            <a:off x="2556000" y="1752480"/>
            <a:ext cx="2343600" cy="734760"/>
            <a:chOff x="2556000" y="1752480"/>
            <a:chExt cx="2343600" cy="734760"/>
          </a:xfrm>
        </p:grpSpPr>
        <p:sp>
          <p:nvSpPr>
            <p:cNvPr id="664" name="Rectangle 5"/>
            <p:cNvSpPr/>
            <p:nvPr/>
          </p:nvSpPr>
          <p:spPr>
            <a:xfrm>
              <a:off x="2917440" y="1844640"/>
              <a:ext cx="198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ыно</a:t>
              </a:r>
              <a:r>
                <a:rPr b="1" lang="ru-RU" sz="3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чк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3"/>
            <p:cNvSpPr/>
            <p:nvPr/>
          </p:nvSpPr>
          <p:spPr>
            <a:xfrm>
              <a:off x="2556000" y="1752480"/>
              <a:ext cx="36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Line 24"/>
          <p:cNvSpPr/>
          <p:nvPr/>
        </p:nvSpPr>
        <p:spPr>
          <a:xfrm>
            <a:off x="5003640" y="213372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5"/>
          <p:cNvSpPr/>
          <p:nvPr/>
        </p:nvSpPr>
        <p:spPr>
          <a:xfrm>
            <a:off x="2484360" y="2997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6"/>
          <p:cNvSpPr/>
          <p:nvPr/>
        </p:nvSpPr>
        <p:spPr>
          <a:xfrm>
            <a:off x="5076720" y="2997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7"/>
          <p:cNvSpPr/>
          <p:nvPr/>
        </p:nvSpPr>
        <p:spPr>
          <a:xfrm>
            <a:off x="2124000" y="386064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8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9"/>
          <p:cNvSpPr/>
          <p:nvPr/>
        </p:nvSpPr>
        <p:spPr>
          <a:xfrm>
            <a:off x="2411280" y="4653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0"/>
          <p:cNvSpPr/>
          <p:nvPr/>
        </p:nvSpPr>
        <p:spPr>
          <a:xfrm>
            <a:off x="5148360" y="465300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1"/>
          <p:cNvSpPr/>
          <p:nvPr/>
        </p:nvSpPr>
        <p:spPr>
          <a:xfrm>
            <a:off x="2484360" y="551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2"/>
          <p:cNvSpPr/>
          <p:nvPr/>
        </p:nvSpPr>
        <p:spPr>
          <a:xfrm>
            <a:off x="5292720" y="5589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3"/>
          <p:cNvSpPr/>
          <p:nvPr/>
        </p:nvSpPr>
        <p:spPr>
          <a:xfrm>
            <a:off x="2700360" y="6308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4"/>
          <p:cNvSpPr/>
          <p:nvPr/>
        </p:nvSpPr>
        <p:spPr>
          <a:xfrm>
            <a:off x="5292720" y="62373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5"/>
          <p:cNvSpPr/>
          <p:nvPr/>
        </p:nvSpPr>
        <p:spPr>
          <a:xfrm>
            <a:off x="2843280" y="476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Р.п. (кого? чег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27"/>
          <p:cNvSpPr/>
          <p:nvPr/>
        </p:nvSpPr>
        <p:spPr>
          <a:xfrm>
            <a:off x="2195640" y="141300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7"/>
          <p:cNvSpPr/>
          <p:nvPr/>
        </p:nvSpPr>
        <p:spPr>
          <a:xfrm>
            <a:off x="241128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38889E-006 2.59259E-006 L 0.44896 -0.09167 E">
                                      <p:cBhvr>
                                        <p:cTn id="68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43316 -0.20718 E">
                                      <p:cBhvr>
                                        <p:cTn id="101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3889 L 0.43316 -0.56412 E">
                                      <p:cBhvr>
                                        <p:cTn id="177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8403 L 0.40938 -0.69028 E">
                                      <p:cBhvr>
                                        <p:cTn id="210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42976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Вставьте пропущенные буквы: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57120" y="2133720"/>
            <a:ext cx="8391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4300" spc="-1" strike="noStrike">
                <a:solidFill>
                  <a:srgbClr val="000000"/>
                </a:solidFill>
                <a:latin typeface="Comic Sans MS"/>
              </a:rPr>
              <a:t>Сыноч…к, подароч…к, мяч..к, самолёт…к, звоноч…к, дружоч…к, ключ…к, карандаш…к, ореш…к, пузырёч…к, кирпич…к,   василёч…к, огонёч…к, кусоч…к, ларч…к, ситч…к, огурч..к. 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1074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14392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Проверь себя: 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539640" y="1483920"/>
            <a:ext cx="83534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Сыно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подаро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мя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самолёт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звоно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дружо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клю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карандаш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ореш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пузырё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кирпи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  василё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огонё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кусо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лар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сит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, огурч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68000" y="2276640"/>
            <a:ext cx="80010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omic Sans MS"/>
              </a:rPr>
              <a:t>Фотодиктант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684360" y="3933720"/>
          <a:ext cx="7972200" cy="1630440"/>
        </p:xfrm>
        <a:graphic>
          <a:graphicData uri="http://schemas.openxmlformats.org/drawingml/2006/table">
            <a:tbl>
              <a:tblPr/>
              <a:tblGrid>
                <a:gridCol w="2657160"/>
                <a:gridCol w="2657520"/>
                <a:gridCol w="2657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186760" cy="8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Comic Sans MS"/>
              </a:rPr>
              <a:t>Фотодиктан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1127160" y="1665360"/>
            <a:ext cx="685332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8" name="Рисунок 4" descr="30-1.gif"/>
          <p:cNvPicPr/>
          <p:nvPr/>
        </p:nvPicPr>
        <p:blipFill>
          <a:blip r:embed="rId2"/>
          <a:stretch/>
        </p:blipFill>
        <p:spPr>
          <a:xfrm>
            <a:off x="7643880" y="142920"/>
            <a:ext cx="11476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16080" y="1984320"/>
            <a:ext cx="487692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0" name="Рисунок 4" descr="30-3.gif"/>
          <p:cNvPicPr/>
          <p:nvPr/>
        </p:nvPicPr>
        <p:blipFill>
          <a:blip r:embed="rId2"/>
          <a:stretch/>
        </p:blipFill>
        <p:spPr>
          <a:xfrm>
            <a:off x="8191440" y="285840"/>
            <a:ext cx="6667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372960" y="2060640"/>
            <a:ext cx="7512120" cy="437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2" name="Рисунок 4" descr="21-3.gif"/>
          <p:cNvPicPr/>
          <p:nvPr/>
        </p:nvPicPr>
        <p:blipFill>
          <a:blip r:embed="rId2"/>
          <a:stretch/>
        </p:blipFill>
        <p:spPr>
          <a:xfrm>
            <a:off x="7596360" y="285840"/>
            <a:ext cx="1285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116080" y="1984320"/>
            <a:ext cx="487692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4" name="Рисунок 4" descr="5-7.gif"/>
          <p:cNvPicPr/>
          <p:nvPr/>
        </p:nvPicPr>
        <p:blipFill>
          <a:blip r:embed="rId2"/>
          <a:stretch/>
        </p:blipFill>
        <p:spPr>
          <a:xfrm>
            <a:off x="7786800" y="357120"/>
            <a:ext cx="1114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3205080" y="2463840"/>
            <a:ext cx="2697120" cy="269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6" name="Рисунок 4" descr="313.gif"/>
          <p:cNvPicPr/>
          <p:nvPr/>
        </p:nvPicPr>
        <p:blipFill>
          <a:blip r:embed="rId2"/>
          <a:stretch/>
        </p:blipFill>
        <p:spPr>
          <a:xfrm>
            <a:off x="214200" y="5357880"/>
            <a:ext cx="18576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18676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omic Sans MS"/>
              </a:rPr>
              <a:t>Укажите верные рассужд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11280" y="2017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1. Имя существительное – это часть речи, которая обозначает действие предмет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2. Имя существительное отвечает на вопросы кто? что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3. Имена существительные изменяются по родам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4. Все имена существительные изменяются по падежам и числам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5. К разносклоняемым существительным относятся 10 существительных среднего рода на –мя и существительное мужского рода </a:t>
            </a:r>
            <a:r>
              <a:rPr b="0" i="1" lang="ru-RU" sz="2600" spc="-1" strike="noStrike">
                <a:solidFill>
                  <a:srgbClr val="000000"/>
                </a:solidFill>
                <a:latin typeface="Comic Sans MS"/>
              </a:rPr>
              <a:t>пут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3259080" y="1897200"/>
            <a:ext cx="2590920" cy="383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000920" cy="52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Рисунок 4" descr="58-1.gif"/>
          <p:cNvPicPr/>
          <p:nvPr/>
        </p:nvPicPr>
        <p:blipFill>
          <a:blip r:embed="rId1"/>
          <a:stretch/>
        </p:blipFill>
        <p:spPr>
          <a:xfrm>
            <a:off x="714240" y="857160"/>
            <a:ext cx="2203560" cy="18576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"/>
          <p:cNvPicPr/>
          <p:nvPr/>
        </p:nvPicPr>
        <p:blipFill>
          <a:blip r:embed="rId2"/>
          <a:stretch/>
        </p:blipFill>
        <p:spPr>
          <a:xfrm>
            <a:off x="3335400" y="1984320"/>
            <a:ext cx="24382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6372360" y="4149720"/>
            <a:ext cx="2117520" cy="15843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" descr=""/>
          <p:cNvPicPr/>
          <p:nvPr/>
        </p:nvPicPr>
        <p:blipFill>
          <a:blip r:embed="rId2"/>
          <a:stretch/>
        </p:blipFill>
        <p:spPr>
          <a:xfrm>
            <a:off x="781200" y="404640"/>
            <a:ext cx="4438440" cy="6196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3" name="Рисунок 5" descr="38-1.gif"/>
          <p:cNvPicPr/>
          <p:nvPr/>
        </p:nvPicPr>
        <p:blipFill>
          <a:blip r:embed="rId3"/>
          <a:stretch/>
        </p:blipFill>
        <p:spPr>
          <a:xfrm>
            <a:off x="6300720" y="1197000"/>
            <a:ext cx="17208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4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029360" cy="527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5" name="Рисунок 4" descr="30-2.gif"/>
          <p:cNvPicPr/>
          <p:nvPr/>
        </p:nvPicPr>
        <p:blipFill>
          <a:blip r:embed="rId2"/>
          <a:stretch/>
        </p:blipFill>
        <p:spPr>
          <a:xfrm>
            <a:off x="7334280" y="1268280"/>
            <a:ext cx="18097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2936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ffff00"/>
                </a:solidFill>
                <a:latin typeface="Comic Sans MS"/>
              </a:rPr>
              <a:t>Проверь себя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39640" y="2205000"/>
          <a:ext cx="7972560" cy="4186440"/>
        </p:xfrm>
        <a:graphic>
          <a:graphicData uri="http://schemas.openxmlformats.org/drawingml/2006/table">
            <a:tbl>
              <a:tblPr/>
              <a:tblGrid>
                <a:gridCol w="2657520"/>
                <a:gridCol w="2657520"/>
                <a:gridCol w="26575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ч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52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жираф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бегемот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львёноч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53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попугай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кот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тигрёноч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53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пингвин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зай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котёноч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крокодиль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сло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зайчоноч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слонёноч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Вставьте пропущенные буквы                           и знаки препинания: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-181440" y="2349360"/>
            <a:ext cx="93250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Много загадок т…ит в себе обыкновенный ёж…к.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Этот к…лючий клубоч…к выдерживает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чудов…щные дозы ядов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Х…дячий комоч…к защищён мощнее, чем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зримым своим заборч…ком из иголоч….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В пр…роде ещё много тайн,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секретов,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ключ…к к которым надо искать и искат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18676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Comic Sans MS"/>
              </a:rPr>
              <a:t>Подведём итог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07760" y="2708280"/>
            <a:ext cx="8435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 определить, с помощью какого суффикса образовано имя  существительное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ое значение придают существительным суффиксы – чик, -щик, -ек, -ик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чего зависит  выбор гласных Е и И                          в суффиксах –ек и –ик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18676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Домашнее задание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Прямоугольник 2"/>
          <p:cNvSpPr/>
          <p:nvPr/>
        </p:nvSpPr>
        <p:spPr>
          <a:xfrm>
            <a:off x="1908000" y="2967120"/>
            <a:ext cx="5328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Индивидуальные задания: кроссворды, ребусы, загадки-презентации по теме «Суффиксы имен существительных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18676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omic Sans MS"/>
              </a:rPr>
              <a:t>Укажите верные рассужд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1280" y="2017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1. Имя существительное – это часть речи, которая обозначает действие предмет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2. Имя существительное отвечает на вопросы кто? что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3. Имена существительные изменяются по родам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4. Все имена существительные изменяются по падежам и числам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5. К разносклоняемым существительным относятся 10 существительных среднего рода на –мя и существительное мужского рода </a:t>
            </a:r>
            <a:r>
              <a:rPr b="0" i="1" lang="ru-RU" sz="2600" spc="-1" strike="noStrike">
                <a:solidFill>
                  <a:srgbClr val="ff0000"/>
                </a:solidFill>
                <a:latin typeface="Comic Sans MS"/>
              </a:rPr>
              <a:t>пут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154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omic Sans MS"/>
              </a:rPr>
              <a:t>Укажите верные рассужд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8360" y="1988640"/>
            <a:ext cx="822960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Несклоняемые существительные имеют для всех падежей одну и ту же форму слова, а склоняемые  - 6 фор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Существительные </a:t>
            </a:r>
            <a:r>
              <a:rPr b="0" i="1" lang="ru-RU" sz="2600" spc="-1" strike="noStrike">
                <a:solidFill>
                  <a:srgbClr val="000000"/>
                </a:solidFill>
                <a:latin typeface="Comic Sans MS"/>
              </a:rPr>
              <a:t>сирота, задира, забияка, обжора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можно отнести и к женскому, и к мужскому роду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Не с существительным пишется слитно, если в предложении  есть противопоставление с союзом 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Если существительное без НЕ не употребляется, то оно пишется с Не слитно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Буква Ч в суффиксе –чик (-щик)  со значением лица  пишется после букв д-т, з-с, ж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154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omic Sans MS"/>
              </a:rPr>
              <a:t>Укажите верные рассужд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68360" y="1988640"/>
            <a:ext cx="822960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Несклоняемые существительные имеют для всех падежей одну и ту же форму слова, а склоняемые  - 6 фор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7.</a:t>
            </a: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 Существительные </a:t>
            </a:r>
            <a:r>
              <a:rPr b="0" i="1" lang="ru-RU" sz="2600" spc="-1" strike="noStrike">
                <a:solidFill>
                  <a:srgbClr val="ff0000"/>
                </a:solidFill>
                <a:latin typeface="Comic Sans MS"/>
              </a:rPr>
              <a:t>сирота, задира, забияка, обжора</a:t>
            </a: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 можно отнести и к женскому, и к мужскому роду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8. </a:t>
            </a: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Не с существительным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пишется слитно, если в предложении  есть противопоставление с союзом 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9. </a:t>
            </a: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Если существительное без НЕ не употребляется, то оно пишется с Не слитно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10.</a:t>
            </a: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 Буква Ч в суффиксе –чик (-щик)  со значением лица  пишется после букв д-т, з-с, ж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8000" y="54936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Georgia"/>
              </a:rPr>
              <a:t>Творческий диктант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95280" y="2420640"/>
            <a:ext cx="4176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Гонщик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Ракетчик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Бетонщик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ереводчик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огульщик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10" descr="http://indebito.ru/images/190/954543.jpg"/>
          <p:cNvPicPr/>
          <p:nvPr/>
        </p:nvPicPr>
        <p:blipFill>
          <a:blip r:embed="rId1"/>
          <a:stretch/>
        </p:blipFill>
        <p:spPr>
          <a:xfrm>
            <a:off x="6659640" y="1484280"/>
            <a:ext cx="1904760" cy="29624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2" descr="http://13.img.avito.st/140x105/999688913.jpg"/>
          <p:cNvPicPr/>
          <p:nvPr/>
        </p:nvPicPr>
        <p:blipFill>
          <a:blip r:embed="rId2"/>
          <a:stretch/>
        </p:blipFill>
        <p:spPr>
          <a:xfrm>
            <a:off x="4140360" y="148428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8" descr="https://img.drive.ru/i/0/4efb763509b6022426002702.jpg"/>
          <p:cNvPicPr/>
          <p:nvPr/>
        </p:nvPicPr>
        <p:blipFill>
          <a:blip r:embed="rId3"/>
          <a:stretch/>
        </p:blipFill>
        <p:spPr>
          <a:xfrm>
            <a:off x="4932360" y="400536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00100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Наблюдаем!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116000" y="2565360"/>
            <a:ext cx="7238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2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omic Sans MS"/>
              </a:rPr>
              <a:t>КЛЮЧ...К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2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omic Sans MS"/>
              </a:rPr>
              <a:t>ЗАМОЧ...К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Проверка написания гласной в суффиксах -- ек, -ик..mp4" descr=""/>
          <p:cNvPicPr/>
          <p:nvPr/>
        </p:nvPicPr>
        <p:blipFill>
          <a:blip r:embed="rId1"/>
          <a:stretch/>
        </p:blipFill>
        <p:spPr>
          <a:xfrm>
            <a:off x="2725560" y="2441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8"/>
          <p:cNvSpPr/>
          <p:nvPr/>
        </p:nvSpPr>
        <p:spPr>
          <a:xfrm>
            <a:off x="468360" y="765000"/>
            <a:ext cx="792000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Правописание суффиксов существительных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    -ЕК/-ИК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 склонении слова гласная бу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ЫПАДАЕ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 ВЫП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b4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b400"/>
                </a:solidFill>
                <a:latin typeface="Arial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ccb400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2556000" y="3716280"/>
            <a:ext cx="0" cy="30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6300720" y="3716280"/>
            <a:ext cx="0" cy="30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1"/>
          <p:cNvSpPr/>
          <p:nvPr/>
        </p:nvSpPr>
        <p:spPr>
          <a:xfrm flipH="1">
            <a:off x="2771280" y="2781360"/>
            <a:ext cx="45252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2"/>
          <p:cNvSpPr/>
          <p:nvPr/>
        </p:nvSpPr>
        <p:spPr>
          <a:xfrm>
            <a:off x="5940360" y="2781360"/>
            <a:ext cx="45252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20"/>
          <p:cNvGrpSpPr/>
          <p:nvPr/>
        </p:nvGrpSpPr>
        <p:grpSpPr>
          <a:xfrm>
            <a:off x="2195640" y="4005360"/>
            <a:ext cx="718920" cy="593640"/>
            <a:chOff x="2195640" y="4005360"/>
            <a:chExt cx="718920" cy="593640"/>
          </a:xfrm>
        </p:grpSpPr>
        <p:sp>
          <p:nvSpPr>
            <p:cNvPr id="631" name="Text Box 17"/>
            <p:cNvSpPr/>
            <p:nvPr/>
          </p:nvSpPr>
          <p:spPr>
            <a:xfrm>
              <a:off x="2195640" y="407844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Е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8"/>
            <p:cNvSpPr/>
            <p:nvPr/>
          </p:nvSpPr>
          <p:spPr>
            <a:xfrm flipH="1">
              <a:off x="2338560" y="4005360"/>
              <a:ext cx="19368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9"/>
            <p:cNvSpPr/>
            <p:nvPr/>
          </p:nvSpPr>
          <p:spPr>
            <a:xfrm>
              <a:off x="2556000" y="4005360"/>
              <a:ext cx="21564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21"/>
          <p:cNvSpPr/>
          <p:nvPr/>
        </p:nvSpPr>
        <p:spPr>
          <a:xfrm>
            <a:off x="826920" y="4869000"/>
            <a:ext cx="36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моч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Е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 зам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ч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ыноч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Е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- сын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ч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22"/>
          <p:cNvGrpSpPr/>
          <p:nvPr/>
        </p:nvGrpSpPr>
        <p:grpSpPr>
          <a:xfrm>
            <a:off x="5940360" y="4076640"/>
            <a:ext cx="718920" cy="593640"/>
            <a:chOff x="5940360" y="4076640"/>
            <a:chExt cx="718920" cy="593640"/>
          </a:xfrm>
        </p:grpSpPr>
        <p:sp>
          <p:nvSpPr>
            <p:cNvPr id="636" name="Text Box 23"/>
            <p:cNvSpPr/>
            <p:nvPr/>
          </p:nvSpPr>
          <p:spPr>
            <a:xfrm>
              <a:off x="5940360" y="41497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4"/>
            <p:cNvSpPr/>
            <p:nvPr/>
          </p:nvSpPr>
          <p:spPr>
            <a:xfrm flipH="1">
              <a:off x="6083280" y="4076640"/>
              <a:ext cx="19368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5"/>
            <p:cNvSpPr/>
            <p:nvPr/>
          </p:nvSpPr>
          <p:spPr>
            <a:xfrm>
              <a:off x="6300720" y="4076640"/>
              <a:ext cx="21564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Text Box 26"/>
          <p:cNvSpPr/>
          <p:nvPr/>
        </p:nvSpPr>
        <p:spPr>
          <a:xfrm>
            <a:off x="4643280" y="486900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люч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И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ключ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И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лаш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И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- шалаш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И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9:48:21Z</dcterms:created>
  <dc:creator>Захарьина</dc:creator>
  <dc:description/>
  <dc:language>en-US</dc:language>
  <cp:lastModifiedBy>Учитель</cp:lastModifiedBy>
  <dcterms:modified xsi:type="dcterms:W3CDTF">2017-10-13T19:18:26Z</dcterms:modified>
  <cp:revision>52</cp:revision>
  <dc:subject/>
  <dc:title>Слайд 1</dc:title>
</cp:coreProperties>
</file>